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F729-5B8E-4309-893E-0573611F0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50C6-D7B0-4DEF-BCCB-8B0EEAB7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DD92-32C1-48F4-8AC8-B10201352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924D-2667-4640-ADD4-0286F6761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238D-D563-4AE0-8A0C-3F120DC7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132A-EF07-44D1-A304-AF2C9441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CA79-0BC3-4D64-BC56-DDD4D5EE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0327-02F8-4A3C-93A0-A1525895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9357-9FB0-4389-A9FF-5F61887E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7E64-F863-4214-86A8-0D2D28BE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3330-5FF2-4676-A13B-9A502D6F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A96A-9473-4BD4-A7D1-1FB49653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3E6D-3B75-4197-918E-52A2B4FAF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785880" y="630360"/>
            <a:ext cx="7543800" cy="5562360"/>
          </a:xfrm>
          <a:prstGeom prst="rect">
            <a:avLst/>
          </a:prstGeom>
          <a:solidFill>
            <a:srgbClr val="0066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57160" y="719280"/>
            <a:ext cx="7400880" cy="538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954000" y="804960"/>
            <a:ext cx="7209000" cy="521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2652840" y="85716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ertificate of Bap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2652840" y="130824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~  This is to certify  ~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2309760" y="184932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That 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1298520" y="2219400"/>
            <a:ext cx="6518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Was Baptized in the Name of the Father, and of the Son, and of the Holy Spir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with the intention of remitting Original Sin … by the person doing the bapti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1243080" y="289548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On the  _______  day of  _________________  in the  _______  year of Our L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1017720" y="5648400"/>
            <a:ext cx="7062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Book Antiqua"/>
              </a:rPr>
              <a:t>According to the Rite of the Catholic Church in pure and natural wa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8"/>
          <p:cNvSpPr/>
          <p:nvPr/>
        </p:nvSpPr>
        <p:spPr>
          <a:xfrm>
            <a:off x="2155680" y="3886200"/>
            <a:ext cx="480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At  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1"/>
          <p:cNvSpPr/>
          <p:nvPr/>
        </p:nvSpPr>
        <p:spPr>
          <a:xfrm>
            <a:off x="2652840" y="34290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~   ~   ~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9"/>
          <p:cNvSpPr/>
          <p:nvPr/>
        </p:nvSpPr>
        <p:spPr>
          <a:xfrm>
            <a:off x="1004760" y="5075280"/>
            <a:ext cx="705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Baptized by  _____________________________         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990720" y="4419720"/>
            <a:ext cx="707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Person Baptized  _________________________          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3124080" y="4648320"/>
            <a:ext cx="85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Book Antiqua"/>
              </a:rPr>
              <a:t>Sig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6156360" y="4648320"/>
            <a:ext cx="85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Book Antiqua"/>
              </a:rPr>
              <a:t>Prin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3124080" y="5302080"/>
            <a:ext cx="85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Book Antiqua"/>
              </a:rPr>
              <a:t>Sig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6156360" y="5302080"/>
            <a:ext cx="85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Book Antiqua"/>
              </a:rPr>
              <a:t>Prin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4T16:38:45Z</dcterms:created>
  <dc:creator>Mike Bizzaro</dc:creator>
  <dc:description/>
  <dc:language>en-US</dc:language>
  <cp:lastModifiedBy>Michael Bizzaro</cp:lastModifiedBy>
  <cp:lastPrinted>2020-12-06T03:19:59Z</cp:lastPrinted>
  <dcterms:modified xsi:type="dcterms:W3CDTF">2020-12-06T03:22:57Z</dcterms:modified>
  <cp:revision>14</cp:revision>
  <dc:subject/>
  <dc:title>Slide 1</dc:title>
</cp:coreProperties>
</file>